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move the slide</a:t>
            </a:r>
            <a:endParaRPr b="1" lang="en-US" sz="40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AF880-3AA3-4FF7-98E4-7ADCFFA8C07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This presentation is intended to show the way in which the IHO Registry fits in with e-Navigation, how it will be implemented.</a:t>
            </a:r>
            <a:endParaRPr b="0" lang="en-US" sz="1200" spc="-1" strike="noStrike">
              <a:solidFill>
                <a:srgbClr val="000000"/>
              </a:solidFill>
              <a:latin typeface="Calibri"/>
            </a:endParaRPr>
          </a:p>
        </p:txBody>
      </p:sp>
      <p:sp>
        <p:nvSpPr>
          <p:cNvPr id="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A33BE-6B59-49B5-ADB1-262F2ABB576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2AD6B8-1907-48B0-BB02-FF37ED33FD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2D4071-745E-4E87-B80B-EF12640F8D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5FDC3B-45E0-48C9-9243-61246909AE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493281-A2A2-4115-901D-A14204C847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5BD395-6029-49FA-8186-42B5120060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EC3F49-3299-4FC3-8F01-7F821CE806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B84739-415C-49D8-81CC-21D3263D8F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B46C59-65FF-4E1B-820E-2A8CB19960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E0DBA3-380E-4E28-9EC5-B7753BE8B3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D4159-9DBF-48C7-90ED-CC45BF74D7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32BA9-088D-4CA3-90D4-7E03DB9C3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CAC14-AA1D-4627-95A7-D7AEDDED7F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F29AD-C26E-45E5-9204-2C23F58784B7}"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 name="Picture 6" descr="IALA logo1"/>
          <p:cNvPicPr/>
          <p:nvPr/>
        </p:nvPicPr>
        <p:blipFill>
          <a:blip r:embed="rId3"/>
          <a:stretch/>
        </p:blipFill>
        <p:spPr>
          <a:xfrm>
            <a:off x="7858080" y="285840"/>
            <a:ext cx="868320" cy="1187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2"/>
          <p:cNvSpPr/>
          <p:nvPr/>
        </p:nvSpPr>
        <p:spPr>
          <a:xfrm>
            <a:off x="571680" y="2214720"/>
            <a:ext cx="8358120" cy="241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ilient PNT Forum</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ck Ward, vice-chair e-NAV</a:t>
            </a:r>
            <a:br>
              <a:rPr sz="5400"/>
            </a:b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ation for PAP 26, 22 Oct 20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Resilient PNT Forum</a:t>
            </a:r>
            <a:endParaRPr b="1" lang="en-US" sz="4000" spc="-1" strike="noStrike">
              <a:solidFill>
                <a:srgbClr val="000000"/>
              </a:solidFill>
              <a:latin typeface="Arial"/>
            </a:endParaRPr>
          </a:p>
        </p:txBody>
      </p:sp>
      <p:sp>
        <p:nvSpPr>
          <p:cNvPr id="51"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bjective:</a:t>
            </a:r>
            <a:endParaRPr b="0"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The proposed Forum would bring together organisations with an interest in positioning, navigation and timing (PNT) to prepare a strategy for achieving resilient PNT in support of activities across all sectors.</a:t>
            </a:r>
            <a:endParaRPr b="0"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ganisation:</a:t>
            </a:r>
            <a:endParaRPr b="0"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The organisers of ENC 2014, in Rotterdam, have agreed that the Forum can be arranged at the Conference venue on the Monday before the main conference starts. Representatives of organisations from all sectors will be invited.</a:t>
            </a:r>
            <a:endParaRPr b="0"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Planned outcome</a:t>
            </a:r>
            <a:endParaRPr b="1" lang="en-US" sz="40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n agreed strategy reflecting:</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31896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ensus on the need for resilient PNT;</a:t>
            </a:r>
            <a:endParaRPr b="0" lang="en-US" sz="2400" spc="-1" strike="noStrike">
              <a:solidFill>
                <a:srgbClr val="000000"/>
              </a:solidFill>
              <a:latin typeface="Arial"/>
            </a:endParaRPr>
          </a:p>
          <a:p>
            <a:pPr marL="318960" indent="-31896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ross-sector support for alternative mixes of systems;</a:t>
            </a:r>
            <a:endParaRPr b="0" lang="en-US" sz="2400" spc="-1" strike="noStrike">
              <a:solidFill>
                <a:srgbClr val="000000"/>
              </a:solidFill>
              <a:latin typeface="Arial"/>
            </a:endParaRPr>
          </a:p>
          <a:p>
            <a:pPr marL="318960" indent="-31896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itment to trials, if necessary, to demonstrate performance of alternatives;</a:t>
            </a:r>
            <a:endParaRPr b="0" lang="en-US" sz="2400" spc="-1" strike="noStrike">
              <a:solidFill>
                <a:srgbClr val="000000"/>
              </a:solidFill>
              <a:latin typeface="Arial"/>
            </a:endParaRPr>
          </a:p>
          <a:p>
            <a:pPr marL="318960" indent="-31896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pport and facilitation for regional and international recognition, cooperation and coordination frameworks.</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1T14:24:41Z</dcterms:created>
  <dc:creator>Nick Ward</dc:creator>
  <dc:description/>
  <dc:language>en-US</dc:language>
  <cp:lastModifiedBy>Nick Ward</cp:lastModifiedBy>
  <dcterms:modified xsi:type="dcterms:W3CDTF">2013-10-22T10:55:20Z</dcterms:modified>
  <cp:revision>38</cp:revision>
  <dc:subject/>
  <dc:title>Slide 1</dc:title>
</cp:coreProperties>
</file>